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9B0B-30F1-48EA-9B96-1172E2E0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16F1-0BBA-4A5B-9F86-89A26D76F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13F-4B70-4635-AF0B-2319B6D5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FDD-9152-4F47-A6DC-9A80D49A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13037-D76B-423D-9D4F-0F17F5A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3A091-747D-4E6B-8F98-4EB484AB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C07F0-14A0-4CE6-A474-0A8B9722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855F0-4E75-4E2C-AC35-34FF017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33182-E9B5-417F-8DC2-4245EBD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DE811-6696-4C84-9038-B4824927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25F9E-F322-43E2-9CD6-63679975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0CA1A-610C-44F5-AD7F-F36BF748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840D2-A274-405F-B88A-16763143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750AC-43C4-4E1E-8D9A-25B9DD8E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62A-6185-4124-8DD1-81854FF4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1B214-43E8-4266-A04E-03D0AF5E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91523-3FDC-49C0-9D80-B1EBE9C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81707-8081-4C15-93D4-F3B05F5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2992B-D5CD-4CAE-A363-B4670140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05B4C-B3D3-4C67-9B1A-F2B41741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CFBAA-FE2C-4269-A03F-345AC11A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26003-DDC7-4628-9439-FB92C3A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8EBD1-58E7-44FA-B2F1-CBD3FD4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D08BF-AED8-4787-9B2A-1CC63EA6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9F493-E5BF-4018-9ABF-73101A63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361-73E4-463F-9A8C-D3E69D8A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8CCF5-C6F5-4D1E-A9FE-48671D82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DFC09-1583-41DF-945A-00F90C6A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7838-663F-4997-A297-F37D030A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DC4D7-6254-4D52-8EE0-1845FD22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F2814-7F7D-4A08-B723-F4D0040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9BBF0-5C27-4E0B-9472-C9B89964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A9BE5-6803-4EC7-BE14-9CE23BDF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28375-D543-4045-9775-9268381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FC557-A745-4FA8-9195-34E635B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507B3-D848-449E-BD47-5400A183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A820-3D81-4C4F-8A19-7598E6EE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42622-D58A-442B-A5AA-6022AA33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47AC1-C372-40D2-8B04-3466EA6D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D97A6-AD23-4AC7-97DE-8EBC1ABC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6CFD4-6081-4DFB-AB52-7F882CB7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63DDF-D4B1-41E7-A33A-519C9D0E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2EC7A-1BDB-4739-ABEF-79067B84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05D83-543F-4572-85C9-A9735553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FF2F5-6547-4ADA-9862-D627F2A1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488CD-B1F7-416C-9E5B-BDEF0E23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C81E2-1016-4558-82C8-9E5FD74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117A-F047-4014-9D0D-24799BF4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09738-C229-4F7E-9360-3CCB488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F5BC1-A42D-4F3B-8A00-1EA44775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5573A-3197-4527-9311-19F9ACC1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C8908-A0C7-4237-939F-AF5E4246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87AE1-4BFA-431F-BD10-9A616AEF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9077-4A2A-4E75-BAEA-F46EC0D6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136-A63C-44B1-AB52-8328C3D8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07EB-B21A-4559-B7E8-161B87F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ADC5-17E9-4B1B-BE46-260DFF53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522-F25D-4EC2-A51B-42D7AE77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F00-88AE-4E8A-834B-CD3D9F4C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146C-B102-4F94-A544-E031F09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3E81-92F0-4976-93EE-5F1C3EB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DE33-4F9A-47B4-AE6A-F3A9173E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9B85-A1AE-42AB-BA0C-84B1FC01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5A58-5C9E-4C70-A59E-005EFAE3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2BC0-C4A4-4575-BEF7-7B74871D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0ADE0-8790-4916-9506-7B17F0B8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78FE-4D26-4B90-807F-5B93B4F2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C8CD-BABF-4351-B24F-66B15A7B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BC73-0E4A-4A0C-81E0-441871B3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A03-F47F-4FBB-9587-4A4D8895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DB84-6953-483A-AAA1-4A0325B7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884C-E265-4F9B-BADD-6DBDA5EF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7989-BA31-4B4B-A36A-9C4F8C7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991E-3E1F-4CB0-84EE-F74FC52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C403-4C73-4264-821E-837B705D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9404-BED0-4A91-B8D5-4780F071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5886-3730-49AC-8492-F1BCC14A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915A-0578-4F7B-895B-24E70218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3CBD9-7B7B-497A-A6FA-FC9A72E8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76EF-3A77-4309-8C9E-3A5A1344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45D-1051-4C29-B683-E5889B34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9E066-931D-40E7-AA03-54E4D5E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F8EA-0D65-46B7-B877-994D1F10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EDA35-2B9B-4E38-849C-4B3147AF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CE57-AB16-40C9-981F-7218DA11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DAD4-82ED-42FD-95C9-1A7646E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767D-8359-4A56-A175-16AEBEFC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089AD-9F97-4775-AB2C-149C5B78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8FFC-D4DC-45B3-8F5C-039B364E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D93D-C9EA-4E7F-87A5-4971DC3A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89DC-BBC3-472B-9D5C-F1D7EEF4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8B9-F477-4257-80A8-7CB0A52C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7F8F9-2D70-4B10-9804-EEF8ECAB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8887-90E6-47CC-86F2-696EAB39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03B95-03B8-409D-A488-D35CB248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EE3D-A23E-4E1C-8073-C33FA9E9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77E1-E490-4C7C-985C-EE49A675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32F50-93D9-4E38-B01A-332E8E62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C5346-5E95-41A0-9D8C-0F3B6FD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92E1C-61D1-44A4-9128-6C2D485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10B0-BD7A-4891-A566-34D67A10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5C2B-CC01-4D79-8626-5FCC0B44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C1A-DBBB-4E87-8038-0D03B184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805B-5C02-4A26-88BD-9A453F08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8E23-C28F-43D5-80AF-DDE61764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212C-1FE5-42F0-9943-3C51CF01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CA96F-91D5-425D-BFCA-C3C67224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5BCA-12F8-4143-8B70-E3862B5B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88E9-D3DF-4816-8857-BF59D48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1CEF6-F706-4BCF-A4DD-ADC1D3E7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768FC-2724-4424-BC5D-95CD61E3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B942-1D5B-4F7A-A017-4EAD2CA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B7FFC-4424-4C03-9DF1-BC49C21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356-57A5-486F-9C50-0ADF532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45466-2F74-40CB-B24C-80379F46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3939-33C9-481E-98EB-8A55896E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EE43-F9EE-489E-8DCB-07597DBB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E2BA3-CC90-418C-AE37-6358E98C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20F3-F0E2-4F27-99C8-5B62E613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93C6-453B-4E2D-9383-C02EE7F1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8A0A5-AD97-4746-9A67-DA5E114D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7E83A-7899-4C60-8272-3D2DDBED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E5E4-0568-4EFC-A1D0-209AE371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54528-242E-4D11-A432-4F17409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1E4-ED19-45AB-AEFD-A853D04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F05B5-5605-48FC-A968-211DDE7D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C017-7032-47DD-952E-5DAD0F1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DFB57-314B-4ECA-9822-31B40010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ACFB-1214-4226-8A0F-1D4AF10B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9E87D-F20B-47AE-A73D-2CC29E81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31BF8-0236-49CF-AD8B-D430028D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8DD9A-C09E-4D78-889B-52D2DB19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54029-4E54-4A49-AAA0-63A11202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B3FBE-D9E1-4930-AC54-2E4BDD3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2C27C-0A80-469F-AC4C-3B040F1A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791-3EF5-4481-9A86-337BF23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43960-A709-447C-8F85-349E27F2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B9E3-BC6E-4CBD-80D0-1D6E58C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92251-323B-45FC-9B06-259CF81D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6783-5216-44F2-8412-5B9947B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4B6A4-5B19-4B18-96C8-91771263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325B8-3683-4391-94FC-F41294A3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E217E-A053-4EC4-806D-8F8649C7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769D9-60E1-445C-AA5B-60AC0B26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3B7AA-6EDC-4082-A125-2F3E55E0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6AC72-CC1D-4C9D-9D10-3F8CC2DA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95A-F743-4AFD-BA2F-0D8292F2B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47C-8390-45C0-916C-2960B70F5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7749-6692-4104-A53F-6A3733826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EE24-5E1B-425E-B39A-333353B629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3E18-49FA-477A-8904-D689A0E0D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A86-9A42-4F6A-95FC-A2A407ED8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D517-FF59-48C2-9F71-0E42865FA4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136-A2AC-4BB4-8097-8C3D1695A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7138-8D29-4A6D-9520-F372B0D38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DF48-185E-4710-9589-92F9DD44B1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F704-AA5B-4F98-92CE-326B716261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E124-26BC-4BD4-AA29-1BE9E93AE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ACOL VIRTUAL SCHOOL SYMPOSIU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NOVEMBER 15, 201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33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102"/>
                </a:solidFill>
                <a:latin typeface="Georgia"/>
              </a:rPr>
              <a:t>Online on the Frontline:</a:t>
            </a:r>
            <a:br>
              <a:rPr sz="4000"/>
            </a:br>
            <a:br>
              <a:rPr sz="1100"/>
            </a:br>
            <a:r>
              <a:rPr b="0" i="1" lang="en-US" sz="3600" spc="-1" strike="noStrike">
                <a:solidFill>
                  <a:srgbClr val="be2102"/>
                </a:solidFill>
                <a:latin typeface="Georgia"/>
              </a:rPr>
              <a:t>Successfully Launching an Online Program in a Public School Distric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BU Final Logo.jpg"/>
          <p:cNvPicPr/>
          <p:nvPr/>
        </p:nvPicPr>
        <p:blipFill>
          <a:blip r:embed="rId1"/>
          <a:stretch/>
        </p:blipFill>
        <p:spPr>
          <a:xfrm>
            <a:off x="5715000" y="304920"/>
            <a:ext cx="2570040" cy="1904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BVSD logo and promise 4x2.jpg"/>
          <p:cNvPicPr/>
          <p:nvPr/>
        </p:nvPicPr>
        <p:blipFill>
          <a:blip r:embed="rId2"/>
          <a:stretch/>
        </p:blipFill>
        <p:spPr>
          <a:xfrm>
            <a:off x="685800" y="754200"/>
            <a:ext cx="256068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Building an Online Culture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6:  Think Grassroots!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TextBox 4"/>
          <p:cNvSpPr/>
          <p:nvPr/>
        </p:nvSpPr>
        <p:spPr>
          <a:xfrm>
            <a:off x="990720" y="2819520"/>
            <a:ext cx="723888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 bold, we’re experimenting wi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omething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on’t promise that this is the most ama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ng ever, it just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elebrate success st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eep public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alk about it in every conver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e your parent volunt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Define Your District Needs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7:  Decide on &amp; focus on one main area before expand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990720" y="37339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tain input about direction of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gramming to decide if focus should be credit recovery, blended model, hybrid model regular semester courses, or full onlin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Details are Important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8:  Include others in your process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990720" y="31129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keholder Group: Curriculum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ruction, Counselors, IT (many facets), Special Education, Enrollment office, Principals, Registrars, 504 Office, Teachers, Board of Education, Business Services, Cabinet and Commun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8384"/>
                </a:solidFill>
                <a:latin typeface="Georgia"/>
              </a:rPr>
              <a:t>Obstacles to Define Before Jumping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 9: Do not become overwhelmed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TextBox 4" descr=""/>
          <p:cNvPicPr/>
          <p:nvPr/>
        </p:nvPicPr>
        <p:blipFill>
          <a:blip r:embed="rId1"/>
          <a:stretch/>
        </p:blipFill>
        <p:spPr>
          <a:xfrm>
            <a:off x="225360" y="2809800"/>
            <a:ext cx="87724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Financial Leveraging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10: Do not anticipate a profi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TextBox 4"/>
          <p:cNvSpPr/>
          <p:nvPr/>
        </p:nvSpPr>
        <p:spPr>
          <a:xfrm>
            <a:off x="990720" y="327672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ent and providers are expensiv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 but give you valuable insight into being 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Y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Intended Audience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Content Placeholder 4" descr=""/>
          <p:cNvPicPr/>
          <p:nvPr/>
        </p:nvPicPr>
        <p:blipFill>
          <a:blip r:embed="rId1"/>
          <a:stretch/>
        </p:blipFill>
        <p:spPr>
          <a:xfrm>
            <a:off x="291960" y="1504800"/>
            <a:ext cx="852804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Panelists and Perspectives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Content Placeholder 3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2156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Where do you start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Content Placeholder 3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168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Why start at the top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1:  Starting an online program or school is a major initiative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6"/>
          <p:cNvSpPr/>
          <p:nvPr/>
        </p:nvSpPr>
        <p:spPr>
          <a:xfrm>
            <a:off x="990720" y="3679920"/>
            <a:ext cx="7238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dership commitment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coming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How to Start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2:  Start Small!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990720" y="3348000"/>
            <a:ext cx="72388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y Start Sm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ember Key Takeaway #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ing an online program or school i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jor initia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8384"/>
                </a:solidFill>
                <a:latin typeface="Georgia"/>
              </a:rPr>
              <a:t>What does starting small mean?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3:  Think pilot, trial, experiment, test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990720" y="3094200"/>
            <a:ext cx="72388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ai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oo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urse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credit recovery, AP, regular semes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number or learning n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VSD Pilot:  50 high school stud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 high schools, mainly credi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How do you get student buy-in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4:  Create excitement about the initiative, believe in your students, success will follow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TextBox 4"/>
          <p:cNvSpPr/>
          <p:nvPr/>
        </p:nvSpPr>
        <p:spPr>
          <a:xfrm>
            <a:off x="990720" y="3706920"/>
            <a:ext cx="7238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the basic concepts of economics, marketing and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ke the personal pitch, “I’ve been thinking that this would be a very good fit for you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Student Suppor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5:  Believe in your students and let them know that you’re excited about them and they’ll respond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TextBox 4"/>
          <p:cNvSpPr/>
          <p:nvPr/>
        </p:nvSpPr>
        <p:spPr>
          <a:xfrm>
            <a:off x="990720" y="4191120"/>
            <a:ext cx="72388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ick hits, quick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get star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e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blic praise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6:15:26Z</dcterms:created>
  <dc:creator>kurt.levasseur</dc:creator>
  <dc:description/>
  <dc:language>en-US</dc:language>
  <cp:lastModifiedBy>jmarie.sage</cp:lastModifiedBy>
  <dcterms:modified xsi:type="dcterms:W3CDTF">2010-11-18T18:26:35Z</dcterms:modified>
  <cp:revision>55</cp:revision>
  <dc:subject/>
  <dc:title>Online on the Frontline: Successfully Launching an Online Program in a Public School District</dc:title>
</cp:coreProperties>
</file>